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07602"/>
        <c:axId val="56168784"/>
      </c:barChart>
      <c:catAx>
        <c:axId val="26507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68784"/>
        <c:crosses val="autoZero"/>
        <c:auto val="1"/>
        <c:lblAlgn val="ctr"/>
        <c:lblOffset val="100"/>
        <c:noMultiLvlLbl val="0"/>
      </c:catAx>
      <c:valAx>
        <c:axId val="56168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07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5FD-E0A3-4B47-8D1A-B87A0E1C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16B-E1D3-415A-A1D0-D2215D16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37C-F308-4D13-A18F-6A4766DF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492-8F2A-4AB0-B433-A0B748E2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CE0-9822-403A-8D71-FE148C9D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39B-E70F-43F1-99E8-07166B5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849-8CEA-4147-AF27-4885CE7D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542-A3BE-4BC3-9CD9-5F42B876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ED4-FA7C-43F8-A012-380938C6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337-43DA-48D2-B33C-BCF1F369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7AB-C47A-4821-9ACE-3B07E52D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0BE-A98F-4EB8-8749-C932DC3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CF442-50F7-4629-8304-56F1895CF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