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51232"/>
        <c:axId val="1521461"/>
      </c:barChart>
      <c:catAx>
        <c:axId val="67451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1461"/>
        <c:crosses val="autoZero"/>
        <c:auto val="1"/>
        <c:lblAlgn val="ctr"/>
        <c:lblOffset val="100"/>
        <c:noMultiLvlLbl val="0"/>
      </c:catAx>
      <c:valAx>
        <c:axId val="1521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51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75D-D2A0-41FA-841C-8567660E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4AC-E112-4662-AEF0-0ACFDB0F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6D7-83E1-4D8D-9E8C-A7FCD384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92B-49CC-4D80-A94C-1A6AA95E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280-4C7F-4FE5-B4C6-804F851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FCD-7313-47A3-A370-8B6389A5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46A-0EE0-4DBB-AC85-12E81B27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E8E-E19D-4BE6-BAC5-AFDF900B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7C4-763D-4FC8-A274-4A114C59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772-7E07-4722-B9D3-A2234433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07C-DCC8-4491-A6A5-419AB3FE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8BF-56FD-484E-8638-1844C7E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ED10B-3A07-4C25-9233-6C36BD3355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