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78033"/>
        <c:axId val="87640820"/>
      </c:barChart>
      <c:catAx>
        <c:axId val="66978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40820"/>
        <c:crosses val="autoZero"/>
        <c:auto val="1"/>
        <c:lblAlgn val="ctr"/>
        <c:lblOffset val="100"/>
        <c:noMultiLvlLbl val="0"/>
      </c:catAx>
      <c:valAx>
        <c:axId val="87640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8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A98-65EB-4554-89E5-C36410F3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6FF-7F62-487D-9303-465D28C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C84-A53C-4B85-8BE1-076D0F46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20C-BFA2-4CEB-A214-23C4F6B7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CBE-04EA-475F-B1F7-1258359C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77D-EEBB-48B0-91E5-05188EE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C7A-DC8B-48CC-9532-0598B83B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49F-1122-48D3-8D9E-3667B54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F2E-7F9C-4D4C-8572-4F072C1F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1B1-AE5E-46F6-86E0-A06F90E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F00-7A85-4446-B79D-ED61176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2AC-60EE-414C-8B1D-589BD14C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AABAB-18A2-4FC5-8667-D9A314D9C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