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77676"/>
        <c:axId val="88828022"/>
      </c:barChart>
      <c:catAx>
        <c:axId val="91377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28022"/>
        <c:crosses val="autoZero"/>
        <c:auto val="1"/>
        <c:lblAlgn val="ctr"/>
        <c:lblOffset val="100"/>
        <c:noMultiLvlLbl val="0"/>
      </c:catAx>
      <c:valAx>
        <c:axId val="88828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77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F17-3830-4BA8-B679-9F2D491E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9A1-A52D-40F4-98A5-B34A1911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BA1-0A4C-4085-8551-33131E8E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232-1FB8-4DF2-A492-DAEC6C39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56E-6930-423F-95A7-E2DEB47F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3CB-9CA4-4516-88D3-FCE6B7D1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2E4-2E00-44A1-9A9D-0F476236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EA8-398B-4049-B1D4-BAE52CD4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8C5-1CC6-4035-A684-AD18043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041-3113-49AA-A703-FF41FD20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815-F3BE-43E7-8B00-9A33F92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231-BB06-46FB-B61B-7692DD4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77E68-F6FC-4E7B-B0C1-FAB9CA26E5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