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5989"/>
        <c:axId val="15095463"/>
      </c:barChart>
      <c:catAx>
        <c:axId val="3785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95463"/>
        <c:crosses val="autoZero"/>
        <c:auto val="1"/>
        <c:lblAlgn val="ctr"/>
        <c:lblOffset val="100"/>
        <c:noMultiLvlLbl val="0"/>
      </c:catAx>
      <c:valAx>
        <c:axId val="15095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5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C21-4F8C-4C36-B0B9-82190598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8E4-0041-4F7B-9425-45746F3F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FE7-C805-4C15-B691-E8A4C142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E01-7D51-4059-A4D6-1319E742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2F5-16BA-4EBB-87DE-790B7426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C34-10E2-43FB-AF69-1D3ED236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9A7-20F7-4C1F-A17B-4FFEF6FE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F4F-4991-4968-9A51-333B1076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801-6470-4E77-852F-1FA4E3C0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A50-1B41-40C4-85F9-160505E0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89F-D524-4ADE-868D-EBD6A796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A4F-D23E-4CEB-9BD3-F224C659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6C7C0-2F36-4B69-BD73-A59A75BBA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