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68406"/>
        <c:axId val="57581847"/>
      </c:barChart>
      <c:catAx>
        <c:axId val="70868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81847"/>
        <c:crosses val="autoZero"/>
        <c:auto val="1"/>
        <c:lblAlgn val="ctr"/>
        <c:lblOffset val="100"/>
        <c:noMultiLvlLbl val="0"/>
      </c:catAx>
      <c:valAx>
        <c:axId val="57581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68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F91-B5C5-4085-A2C0-DDF1A3F2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0BB-A9FC-4668-BCE9-0CB0E83C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98D-BF11-473A-A02B-C59E1FA1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97A-D69F-4C78-97E1-9049852B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B74-C1E9-4741-BA0B-6F774767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848-5A74-471F-8DCD-62738F44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C1C-35D7-4D2B-AC9D-AE62572B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823-4C25-451D-B309-08EFB597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84D-7408-4B1F-86A2-7D7FE36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99A-31EC-4F28-A7BA-0B49A6E6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68B-B5B3-40B6-8482-1AE73B89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621-16B2-4130-9BCA-757EB440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91914-08DC-4BAB-AFF3-438957E5F5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