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79464"/>
        <c:axId val="25189585"/>
      </c:barChart>
      <c:catAx>
        <c:axId val="37379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9585"/>
        <c:crosses val="autoZero"/>
        <c:auto val="1"/>
        <c:lblAlgn val="ctr"/>
        <c:lblOffset val="100"/>
        <c:noMultiLvlLbl val="0"/>
      </c:catAx>
      <c:valAx>
        <c:axId val="25189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79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3E5-E05A-48C4-B369-A33F8827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134-5074-45E3-98C9-75D505A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FBF-8131-478D-9075-5B9B6C5F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7B3-FC44-4B03-AA13-218792EF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E30-D92A-4A88-8A1A-F63CDCEB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387-009A-4152-AF21-9F1CE8F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3FC-669D-4ACB-A663-88ADA45B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9B0-0700-4DFB-8630-60569EFB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714-FC21-4A5B-A3C3-C0CDFC45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A0C-BE68-4272-86DA-793607AA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346-465D-46B8-89C4-C25A44F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F26-C7F3-426B-BBB2-C8A513B4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47F9E-B330-48DF-951A-013C690F8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