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99570"/>
        <c:axId val="94921406"/>
      </c:barChart>
      <c:catAx>
        <c:axId val="43799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1406"/>
        <c:crosses val="autoZero"/>
        <c:auto val="1"/>
        <c:lblAlgn val="ctr"/>
        <c:lblOffset val="100"/>
        <c:noMultiLvlLbl val="0"/>
      </c:catAx>
      <c:valAx>
        <c:axId val="94921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99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F65-FFB1-4A80-90D2-8AE9B3CB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543-581B-439F-AE52-8769F7E1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BE2-EBC7-4EE0-98E5-0737518F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9D0-8AD2-4B8A-A7A7-BE3D43B5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2E5-6E46-4533-8946-24E13FBB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2A0-C8E6-4023-A80B-3439FF6F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E0B-08D0-4DA1-B216-E3CA38C3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7F7-1810-4CBC-97F1-466EEEE2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989-5409-41C9-9771-554B1B7A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BA9-B9B2-40AF-A2EA-4A3F8A60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6BE-875A-4E26-9F91-274D9291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ECE-DAAB-46AC-9F31-B2CB47B1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7507D-C8D0-43E5-8643-273F6AAFB9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