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41722"/>
        <c:axId val="73946053"/>
      </c:barChart>
      <c:catAx>
        <c:axId val="178417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46053"/>
        <c:crosses val="autoZero"/>
        <c:auto val="1"/>
        <c:lblAlgn val="ctr"/>
        <c:lblOffset val="100"/>
        <c:noMultiLvlLbl val="0"/>
      </c:catAx>
      <c:valAx>
        <c:axId val="739460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417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D4C-9268-4FA4-8028-D7FDF44B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93D6-31F7-42ED-8CA0-54F2F35F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EBC4-3573-45A4-AC3B-5003BFE5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7D16-0BF4-4A58-8A01-A4B1882D2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F77F-6551-4A4E-8BCE-9C8BCFD6E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49D-60DF-4D3D-9B03-3D3F90D3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E7D1-851D-4C7C-A19A-E48A5DEC3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4337-4C3D-436E-AF9B-1624C1DB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963E-4387-415C-8110-85905AFB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1099-F212-4F92-AB84-B40AA7C8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BFE-E56B-4B11-ACA0-3C3278683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48F1-2E7A-494D-B9E3-A1C0376B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6C9AE-8E76-4737-B97D-2EB2225482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