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20283"/>
        <c:axId val="35772582"/>
      </c:barChart>
      <c:catAx>
        <c:axId val="89202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72582"/>
        <c:crosses val="autoZero"/>
        <c:auto val="1"/>
        <c:lblAlgn val="ctr"/>
        <c:lblOffset val="100"/>
        <c:noMultiLvlLbl val="0"/>
      </c:catAx>
      <c:valAx>
        <c:axId val="357725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02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7072-4ED8-4786-A35A-C0490DF6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27B-AB69-422D-BBBB-82E50514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CBE-4D3F-40D0-9A7B-15736AE3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E5DE-34E8-4D96-9D57-7B7EA0DE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F293-B6F3-4003-8A83-CB6C47F6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AF3-BFB1-42DF-9E29-1DA75A5B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F74A-EE97-4B88-B120-47A4DE98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3442-AA52-4298-BCF4-06B935AF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4B10-6411-49D4-A29E-818E6420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BD33-FE2E-4EBA-9150-F2722E4E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A6C6-1EEC-4115-BE96-D525BF74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8C13-D003-44F9-BDA1-B87A75A7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A246E-CA90-4393-8637-F45B420246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