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00593"/>
        <c:axId val="16000927"/>
      </c:barChart>
      <c:catAx>
        <c:axId val="57600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00927"/>
        <c:crosses val="autoZero"/>
        <c:auto val="1"/>
        <c:lblAlgn val="ctr"/>
        <c:lblOffset val="100"/>
        <c:noMultiLvlLbl val="0"/>
      </c:catAx>
      <c:valAx>
        <c:axId val="16000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00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FEB-E912-42F9-8205-326F0F0B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A5A-0F76-462B-9120-949AA03E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A6C-1EA6-488F-B117-3DEBA3D1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D7E-1CF9-4F73-9988-B58B14C4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2BA-BDD3-4080-899C-6D4958D4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AEE-E6EE-4A74-94DA-8EDFA3E9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DF2-4775-4BBF-BCE2-3B01FB45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480-6526-4C1F-9D28-A4887A9C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60F-8E8E-4498-9243-AB49C072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511-3502-4241-B0E3-8303B3CF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3AE-4E8C-4EB5-9AC5-456E5D02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E4B-6A35-440F-B831-06A47D9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59BF8-1DF3-49A2-82CC-99177593BD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