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10474"/>
        <c:axId val="17641138"/>
      </c:barChart>
      <c:catAx>
        <c:axId val="58410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41138"/>
        <c:crosses val="autoZero"/>
        <c:auto val="1"/>
        <c:lblAlgn val="ctr"/>
        <c:lblOffset val="100"/>
        <c:noMultiLvlLbl val="0"/>
      </c:catAx>
      <c:valAx>
        <c:axId val="17641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10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381-743D-48C6-84E1-4AF6C7A7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F81-FD61-465A-8984-A8E0B05D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F38-4ACA-4DE0-8334-3EF6B2F1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26B-E55C-474C-892C-434E7128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C08-6154-46E6-8EFF-33EF28B0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2B9-FB4E-4E13-BD92-549C588C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B7C-9B0A-4090-99AD-842808FF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D6F-0D6C-4C79-81D2-5030E9A4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2F7-272F-4EE0-99F4-0CB4ABB2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05B-FA15-480A-8345-87CBD5AA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FFB-B4B2-4729-B680-6E6E2C2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E26-6BC3-4EA2-A320-E3445EC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72267-DA3C-4EB8-90A9-88C4A176A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