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30588"/>
        <c:axId val="43629123"/>
      </c:barChart>
      <c:catAx>
        <c:axId val="65330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29123"/>
        <c:crosses val="autoZero"/>
        <c:auto val="1"/>
        <c:lblAlgn val="ctr"/>
        <c:lblOffset val="100"/>
        <c:noMultiLvlLbl val="0"/>
      </c:catAx>
      <c:valAx>
        <c:axId val="43629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30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5A1-3589-42D7-B620-FB6A56DC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4FA-7EF5-40DD-9132-E3C2177B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1BB-08BA-4005-B456-0BAB3836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E0C-F6F0-4DC5-B13C-3C6857DF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FA4-AC82-4018-9DF1-9C6A4BBE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693-13DF-45A6-AE9D-D3FE1938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ADF-AA84-4344-A32B-23062450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6A9-9875-44F0-B59F-9FC2D350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AEF-08D7-401A-ADBE-C5B4B25E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126-D271-4F63-A880-7E34A8D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277-7708-40B7-A775-92E3ADE1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63C-8EB5-4CEA-B5EF-D13C564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DA08A-F523-49C6-BF3C-F6FBBB4AAF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