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98017"/>
        <c:axId val="45175202"/>
      </c:barChart>
      <c:catAx>
        <c:axId val="31498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5202"/>
        <c:crosses val="autoZero"/>
        <c:auto val="1"/>
        <c:lblAlgn val="ctr"/>
        <c:lblOffset val="100"/>
        <c:noMultiLvlLbl val="0"/>
      </c:catAx>
      <c:valAx>
        <c:axId val="45175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98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E63-0361-4A83-B340-86883A7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8DD-1848-4FD6-9525-393CF11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227-5DF3-4077-94F3-216FD2B6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34F-07C0-4FF6-814C-2A1A612C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0E0-4532-4B58-9D26-4CCEE136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C7C-A296-448F-A146-1A202D87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FE8-5069-4A98-9776-693672B2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70A-4DC2-4CE4-BE51-7D458E0E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98C-1021-4701-A872-08620B8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B95-9A35-4D48-88E9-8D3BCE85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3F6-C9BE-4B05-9BD6-6341B11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F2A-5A86-4414-8FEC-D6FBEED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2D802-8084-4CF1-9445-A8A3156AD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