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84532"/>
        <c:axId val="44001732"/>
      </c:barChart>
      <c:catAx>
        <c:axId val="54884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01732"/>
        <c:crosses val="autoZero"/>
        <c:auto val="1"/>
        <c:lblAlgn val="ctr"/>
        <c:lblOffset val="100"/>
        <c:noMultiLvlLbl val="0"/>
      </c:catAx>
      <c:valAx>
        <c:axId val="44001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84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95C-2A38-4CAE-B396-2FB78594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088-85C4-491C-88CE-6E6B2D05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1EE-6A4A-4D97-B16E-59C73179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BE6-0A89-415D-866D-E1D69739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30C-63FB-4C49-98EC-872CEF19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190F-DB5D-40A9-82F7-CAB7C2F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954-00AF-4C7C-96FC-BEE2452D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DB9-354A-489B-8EA4-5921725D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4A0-714B-422B-A167-FCF6C98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15C-B9C0-431B-944E-F80AB86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6E8-5F56-48CE-8A41-613724E4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570-DBD7-43EE-B571-11CB5D8B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E52F2-B8B6-4664-9017-5E625C8430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