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64832"/>
        <c:axId val="71030457"/>
      </c:barChart>
      <c:catAx>
        <c:axId val="76764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30457"/>
        <c:crosses val="autoZero"/>
        <c:auto val="1"/>
        <c:lblAlgn val="ctr"/>
        <c:lblOffset val="100"/>
        <c:noMultiLvlLbl val="0"/>
      </c:catAx>
      <c:valAx>
        <c:axId val="71030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4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BBA-BA2D-435E-B77C-1A9FFA9F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456-FDEB-4757-A984-80BCBE8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8EA-A2A6-4D2A-9FD9-A43D09B3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C83-A79F-4136-9801-3A2DC127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4F6-5EE2-4907-A1C0-6ABBC6D5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3BA-8EA7-47AC-8FE4-E31C6579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65E-7CB7-4536-A472-B85F6B8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72E-C4F7-489F-B472-2C5C7276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47D-9104-48FA-8D61-686923EA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CD6-2A36-4AFB-9C96-452D096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AFF-E5FE-4AAF-9BF9-B478840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227-7A34-414E-8379-A9D683D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00744-39CF-4B06-A944-07A5A219B1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