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558714"/>
        <c:axId val="16175514"/>
      </c:barChart>
      <c:catAx>
        <c:axId val="795587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75514"/>
        <c:crosses val="autoZero"/>
        <c:auto val="1"/>
        <c:lblAlgn val="ctr"/>
        <c:lblOffset val="100"/>
        <c:noMultiLvlLbl val="0"/>
      </c:catAx>
      <c:valAx>
        <c:axId val="16175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5587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163-6983-42B9-8342-01DCFFDC4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990-2DED-4AF6-B1C7-5B3AF0432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6595-8AFC-4B01-B010-79FB4FA81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6237-A054-4DB3-9E16-97FDC831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352B-8FA9-4B81-A1CF-EDED4893D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7706-60BE-4998-A171-05957B50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6E8D-A257-4E84-B53E-3659250ED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3B0B-6834-47EF-8794-CAEC5590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E50D-89DE-41C1-B2D4-A017856AB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22D7-4E58-466C-A173-9EDEFD2BA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8359-5186-453A-8C49-DE5C2DCC9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882F-5AAE-496C-B704-194F80A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4D3D3-B32E-4222-B795-C95A67D37C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