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5049"/>
        <c:axId val="99575090"/>
      </c:barChart>
      <c:catAx>
        <c:axId val="83165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5090"/>
        <c:crosses val="autoZero"/>
        <c:auto val="1"/>
        <c:lblAlgn val="ctr"/>
        <c:lblOffset val="100"/>
        <c:noMultiLvlLbl val="0"/>
      </c:catAx>
      <c:valAx>
        <c:axId val="99575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5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1E3-B953-40A4-8AE8-578E8DDF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509-BA62-42E9-BF6F-5C459F77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57E-F02C-4399-842D-FC6061CF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400-6170-40DF-AB7D-896B55AD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AB9-206C-4121-8E86-B2A25CA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AB1-94E9-4D1B-A8D7-F8B569B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931-584C-411B-8F43-0ED92760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618-5B10-4248-8B18-30B3574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D2D-5D9D-4C2B-82B6-506439F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330-8BAC-4A1C-9135-FA8C49E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84F-2FCB-41ED-BEDC-6B021C1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B9D-77D5-4865-A539-EACB0CFA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B76CF-0420-4243-ABDE-42FE53C14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