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2618164"/>
        <c:axId val="19026781"/>
      </c:barChart>
      <c:catAx>
        <c:axId val="8261816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026781"/>
        <c:crosses val="autoZero"/>
        <c:auto val="1"/>
        <c:lblAlgn val="ctr"/>
        <c:lblOffset val="100"/>
        <c:noMultiLvlLbl val="0"/>
      </c:catAx>
      <c:valAx>
        <c:axId val="1902678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61816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5CCA5-CA05-429B-B2EC-D9CCA4021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CDAEE-A02B-4CD3-ABEC-8D8947948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0A1F1-275C-444E-A752-7EFB36534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6693C-0F51-4CAB-AA3A-E061DCF17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E5531-8A6F-4BB0-BF13-07AA43563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6FA1D-A203-4E94-9238-95355844B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AD246-CFA0-472C-8DBE-D2DE4AFA6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3326B-9B69-442D-906C-C4697528E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7BD48-45C9-43BD-AC58-6D5DC0A7F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981D7-89F6-425C-8A07-DDAD85AD5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A338D-D7C7-4D02-94C9-147FCF5FE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B8BF7-EB40-49F7-A888-6DF54ED3D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BDF817-8862-4BE3-BF85-265E956FF5F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