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340"/>
        <c:axId val="67885098"/>
      </c:barChart>
      <c:catAx>
        <c:axId val="675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85098"/>
        <c:crosses val="autoZero"/>
        <c:auto val="1"/>
        <c:lblAlgn val="ctr"/>
        <c:lblOffset val="100"/>
        <c:noMultiLvlLbl val="0"/>
      </c:catAx>
      <c:valAx>
        <c:axId val="67885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203-048D-4010-BF74-65C57CFF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A5B-E427-47B3-B80D-FBA54532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859-A88D-419B-AEB3-8B1E77F0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479-6303-45E2-B6C1-F3B90E59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6F6-52BD-4E48-8CB2-8AC072A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8C7-6E53-4A6D-8679-04B19DCC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65B-86D4-4384-95D2-1C52B265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CB4-38C1-4457-B49B-AF49D58C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77C-136F-4B0B-BD5D-71A8A1E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A2A-B9D4-41BC-AE75-72769CBB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A60-0ACA-468F-A017-22D8C67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C40-7C29-48AC-9010-E2A985F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D3B27-B2ED-432F-A60F-4142C46437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