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18481"/>
        <c:axId val="89154154"/>
      </c:barChart>
      <c:catAx>
        <c:axId val="40418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54154"/>
        <c:crosses val="autoZero"/>
        <c:auto val="1"/>
        <c:lblAlgn val="ctr"/>
        <c:lblOffset val="100"/>
        <c:noMultiLvlLbl val="0"/>
      </c:catAx>
      <c:valAx>
        <c:axId val="89154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18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A36-737F-43BE-9C55-6C5319E0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AA0-7F01-412F-88F2-13ADA806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8FF-E1BE-44B1-91EC-1660EF27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5B8-3ED1-4706-BFEA-64953379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78C-E3CC-4C06-A69E-787D6FEE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986-4D12-4A59-A25E-333F2658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A0A-B479-45A5-8BF3-D1BA6DB0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E8B-DC35-4737-A8DB-5B7EB683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50E-8755-432E-B5D3-4DBD8C74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B93-B479-414A-8C98-379E826D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66B-5A08-4181-8938-D36506D4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812-137C-4940-B13F-CDD80CE5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B1144-B3B5-4B58-B7A1-34FDBDEC9F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