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69973"/>
        <c:axId val="53172502"/>
      </c:barChart>
      <c:catAx>
        <c:axId val="34869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72502"/>
        <c:crosses val="autoZero"/>
        <c:auto val="1"/>
        <c:lblAlgn val="ctr"/>
        <c:lblOffset val="100"/>
        <c:noMultiLvlLbl val="0"/>
      </c:catAx>
      <c:valAx>
        <c:axId val="53172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69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5B9-6501-4097-8531-DF8E7467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AFC-DC36-49C9-A27F-ED942B82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339-A757-47C5-9B1A-EF12151A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5D8-E6D7-4464-891E-A5E91533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3F0-ABF5-4684-90D6-E6F90CF0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424-AE10-4065-A91B-ED943315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921-84DB-4121-B0FD-61A8E92F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781-2088-4528-9B69-3F8ECCF9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FB9-768C-4492-98FE-FDA61B93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097-5821-4C08-88C1-F66521F0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719-647D-4231-8133-105C8190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31F-E187-4688-AF4A-C5CA9FD8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70D17-9E66-4E8C-BE16-D23A2CEAC6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