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739731"/>
        <c:axId val="35148410"/>
      </c:barChart>
      <c:catAx>
        <c:axId val="427397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48410"/>
        <c:crosses val="autoZero"/>
        <c:auto val="1"/>
        <c:lblAlgn val="ctr"/>
        <c:lblOffset val="100"/>
        <c:noMultiLvlLbl val="0"/>
      </c:catAx>
      <c:valAx>
        <c:axId val="35148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397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0233-2478-40ED-AF64-50324ADC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66DF-9456-4C24-8B65-DDF993CF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B8CA-7635-47CD-890D-D4508A8C2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0615-529B-48F0-B33B-3AA4506A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33CA-5CD5-4707-9C8B-9EA9E639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FBA3-1D4D-4297-8B91-419D1C2B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727D-03B7-47F3-8F8F-1B7E8108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07AF-B9F3-4742-9989-473313FF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8E44-C3EB-4D9D-B774-3E16DB09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C047-0CC4-422D-A3A8-36DF55CD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B16D-3F89-4CF7-BFB5-BB06C796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50B0-840F-48C8-92E3-1F401C53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35B6F-B36B-48A6-B2A0-BF3BFD548A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