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69708"/>
        <c:axId val="22989038"/>
      </c:barChart>
      <c:catAx>
        <c:axId val="59769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89038"/>
        <c:crosses val="autoZero"/>
        <c:auto val="1"/>
        <c:lblAlgn val="ctr"/>
        <c:lblOffset val="100"/>
        <c:noMultiLvlLbl val="0"/>
      </c:catAx>
      <c:valAx>
        <c:axId val="22989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69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801-82DD-4A80-A1F2-8BDD01E7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9A1-6D69-4007-AFD2-E6E1B0A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40A-0FD7-4314-BF13-11F76377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773-576C-4D97-BD81-89447BDF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BF4-7DF6-4933-A811-D59E854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4CB-D52B-4094-A26F-1CF10ABB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5EA-4073-41EE-9DCF-35D94F5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FC9-6209-41B3-BF5C-B153614D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942-D4D1-4977-A8FD-F42E5631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1BC-F7FA-4CCD-B502-25E1BD8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E8E-FC14-41F8-8FD1-6AC9458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C38-1CD9-4C0C-A531-D98588A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FCC08-E7C2-4DEA-BFD9-44692614B5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