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33143"/>
        <c:axId val="23069756"/>
      </c:barChart>
      <c:catAx>
        <c:axId val="62033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9756"/>
        <c:crosses val="autoZero"/>
        <c:auto val="1"/>
        <c:lblAlgn val="ctr"/>
        <c:lblOffset val="100"/>
        <c:noMultiLvlLbl val="0"/>
      </c:catAx>
      <c:valAx>
        <c:axId val="23069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3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B35-AAE0-4BDB-9E2E-C28C15DC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556-9522-4095-A850-3646B8B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F16-ACE5-4681-80A0-843F5FF1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266-3C3E-4E76-8D46-8A62952F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163-C7C3-47F2-9F2C-D94616C0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F8B-40FD-4D84-9E6A-53FA176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0F3-2283-4AE8-B737-53826188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97D-4880-4691-90AE-63B8CE3F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56D-3CF8-4946-B2B2-9C4A33EB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748-FD3C-460F-9129-02DE743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C07-30A8-4B34-83A1-7128E5E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6F5-72DA-4793-B71B-7CAAC31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99DCF-499B-45BB-8934-0087250BF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