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76191"/>
        <c:axId val="54868838"/>
      </c:barChart>
      <c:catAx>
        <c:axId val="31976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68838"/>
        <c:crosses val="autoZero"/>
        <c:auto val="1"/>
        <c:lblAlgn val="ctr"/>
        <c:lblOffset val="100"/>
        <c:noMultiLvlLbl val="0"/>
      </c:catAx>
      <c:valAx>
        <c:axId val="54868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6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015-2EDC-462E-A649-57912339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28C-7DDE-4137-B790-0525A32A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277-3C7C-4C43-B198-E753752F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64C-FB78-4645-B53F-91A5DE52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B8E-3174-44B8-9D40-6CED778A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B6C-437F-4241-8CD7-910ECA7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BDD-41D8-4371-ADAC-E96BD88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3CD-4E77-4BC9-B970-2693BFF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DFC-D8FB-47E0-AEE0-577A8A8D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647-92E1-4FDC-9433-791B9A4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A08-70E4-4CA2-A9D1-DAAA393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A13-6640-4DB6-AEA6-A03B38D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07681-F395-405F-8B57-27B01476A8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