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53205"/>
        <c:axId val="85404217"/>
      </c:barChart>
      <c:catAx>
        <c:axId val="55153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04217"/>
        <c:crosses val="autoZero"/>
        <c:auto val="1"/>
        <c:lblAlgn val="ctr"/>
        <c:lblOffset val="100"/>
        <c:noMultiLvlLbl val="0"/>
      </c:catAx>
      <c:valAx>
        <c:axId val="85404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53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8FF-C656-44BC-896F-0F28E8CD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EE7-19B3-47B0-8346-CEB73D17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D13-4779-43BD-B548-DFFB54D6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2F3-B48F-4795-A87A-BF816861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F12-E675-428B-A01F-C39A4115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9A5-5AD3-436A-A343-F41EC861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101-D727-47C2-9833-D62F2F0B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585-EF2A-453B-8D82-50B537C5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B56-0F80-4149-92EB-094A0125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367-3587-4CEE-A173-56F36DA3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0F4-9BF8-45CD-8D65-C47447DF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BFB-8CDF-4909-A747-9431D4D3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48958-FD27-4222-BBFE-E57BE29CD1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