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tif" ContentType="image/tif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196A1-40AC-4BBD-9EF5-171305DF3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031E0-E5BE-4E99-8738-A87E6AACD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71E33-9433-4CE1-B909-FDF9624EC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D8FA1-1336-4449-8454-0BFE6D9AE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AAD25-613D-4753-BAB8-CFC38DB3A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C1845-70FC-4ACA-9B14-7C68F11BE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40566-B3C8-48EF-B36A-4C00A2966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A2767-E33D-4D4D-B6B9-085772558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6FFCB-B1B5-4078-AFDA-2B8900582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6092E-48F3-48F9-9E64-AF35841E0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0B1C0-EFBF-4DCC-8B59-244EA7B61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EFAEA-09FD-4E5E-8657-AA8C335D2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ABD39-2B2C-4F03-A5AE-3537CC7CBA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t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"/>
          <p:cNvSpPr/>
          <p:nvPr/>
        </p:nvSpPr>
        <p:spPr>
          <a:xfrm>
            <a:off x="4654440" y="0"/>
            <a:ext cx="7537680" cy="6858000"/>
          </a:xfrm>
          <a:prstGeom prst="rect">
            <a:avLst/>
          </a:prstGeom>
          <a:solidFill>
            <a:srgbClr val="4d2d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89400" y="1306080"/>
            <a:ext cx="5478480" cy="266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 Light"/>
              </a:rPr>
              <a:t>Apache Sling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481040" y="3083040"/>
            <a:ext cx="1649520" cy="6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22T15:05:45Z</dcterms:created>
  <dc:creator>Microsoft Office User</dc:creator>
  <dc:description/>
  <dc:language>en-US</dc:language>
  <cp:lastModifiedBy>Microsoft Office User</cp:lastModifiedBy>
  <dcterms:modified xsi:type="dcterms:W3CDTF">2019-05-22T15:06:37Z</dcterms:modified>
  <cp:revision>1</cp:revision>
  <dc:subject/>
  <dc:title>Apache Sling</dc:title>
</cp:coreProperties>
</file>